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45A-445C-4DD5-9176-5394CA05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EA9-80C7-4DCC-8F6F-1E036AB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932-28D1-431B-8E6F-25D7AADC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544-3295-404D-9C1B-9EBD845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7AE-AE8A-42F0-8CCA-F5630ECA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D70-711B-4941-841E-053B5693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02C-4CB0-4C5A-B660-B9AE830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5E2-CF72-4AC2-B222-8B98E071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223-19F5-480C-AD0D-CB2CEE74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711-F458-43B3-837A-AD4D1E6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F76-7225-46F6-8C74-85EC7E19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CA6-6CDC-4440-96D3-990D25C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8AB-D5AA-4C04-8075-F85CAA67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1809 died in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lkes Both killed Abraham Linco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truly great men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United States during the Civil War 1861 to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732 died in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the Father of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’s birthplace on Pope’s creek in Westmoreland Cou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hippopotamus ivory for fake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 the Continental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and Lincoln’s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3880" y="4118040"/>
            <a:ext cx="4110120" cy="27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52280" y="4257720"/>
            <a:ext cx="50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8223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6781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53:41Z</dcterms:created>
  <dc:creator>Carolyn Spielmann</dc:creator>
  <dc:description/>
  <dc:language>en-US</dc:language>
  <cp:lastModifiedBy>Carolyn Spielmann</cp:lastModifiedBy>
  <dcterms:modified xsi:type="dcterms:W3CDTF">2010-02-02T20:19:43Z</dcterms:modified>
  <cp:revision>6</cp:revision>
  <dc:subject/>
  <dc:title>Comparing presidents</dc:title>
</cp:coreProperties>
</file>